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95707"/>
        <c:axId val="49000894"/>
      </c:barChart>
      <c:catAx>
        <c:axId val="35295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00894"/>
        <c:crosses val="autoZero"/>
        <c:auto val="1"/>
        <c:lblAlgn val="ctr"/>
        <c:lblOffset val="100"/>
        <c:noMultiLvlLbl val="0"/>
      </c:catAx>
      <c:valAx>
        <c:axId val="49000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95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687-6B25-42BF-A229-ED7B3798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53F-01DD-41DB-B31F-6653994E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58B-73EC-4694-A928-F6717027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207-5CA4-4FCD-A713-C6C06958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317-4A15-4520-8C99-55A63182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A30-5151-4113-B9BE-5A9560BF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099-18E3-4E44-941C-739C20D8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649-43C8-4288-BCFC-B975FB5C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CBA-B847-448D-94D1-7E2DE9E1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491-2B00-4711-87DA-DE26D452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DF59-5A79-425C-B712-4C7AC586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3D9-FFBA-4AC2-BCFF-7AADAE45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D2720-AFB0-477E-9E14-19B08EA2E2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