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3243"/>
        <c:axId val="49219680"/>
      </c:barChart>
      <c:catAx>
        <c:axId val="1723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19680"/>
        <c:crosses val="autoZero"/>
        <c:auto val="1"/>
        <c:lblAlgn val="ctr"/>
        <c:lblOffset val="100"/>
        <c:noMultiLvlLbl val="0"/>
      </c:catAx>
      <c:valAx>
        <c:axId val="49219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3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AE8-F58C-4A58-93A3-0B93546A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272-4091-4F6B-A1E1-3B83CD13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F47-D526-4652-89CB-0E4B5178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5C3-0715-4390-8589-D14E6274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4E7-2B00-4F91-AA64-2B62BE94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8AA-7528-4751-8580-8C47D998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52E-0307-4E8B-9DAF-D7AE441D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4AC-B5DD-485B-8AD7-7F0B92ED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3E5-4511-47EA-8C1A-8D8BCD16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89C-5D28-4ACB-9C5A-F9E2E758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0DB-D4F8-4C07-BF3C-56459E81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90B-9952-4755-9E01-0F16C6AE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67F4A-1346-4DF0-A9A8-B3DF2B6710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