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44014"/>
        <c:axId val="76283341"/>
      </c:barChart>
      <c:catAx>
        <c:axId val="30644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83341"/>
        <c:crosses val="autoZero"/>
        <c:auto val="1"/>
        <c:lblAlgn val="ctr"/>
        <c:lblOffset val="100"/>
        <c:noMultiLvlLbl val="0"/>
      </c:catAx>
      <c:valAx>
        <c:axId val="76283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44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238-1B27-4EE1-9141-9022A23A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4AE-2A5A-41AD-8DA1-A2A0E9D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119-25F3-4FEF-8F10-DB08B993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1FA-C358-4FF7-B064-42D9FAA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D35-B0C7-45FF-9010-D339D29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568-2E9C-4574-9946-8D6F9BB2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1DA-95A4-44D2-B3D5-056C4CD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A7-B727-40A6-93D7-13156D35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E73-38F6-494B-AB68-EB5B167B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088-9D8E-4F0A-AD88-7B04AC9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0ED-8392-4322-B8BC-89F4D7C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143-77BA-4557-89CB-0BE97E1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758D-9403-4008-BED5-FCFB377F8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