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99164"/>
        <c:axId val="1304116"/>
      </c:barChart>
      <c:catAx>
        <c:axId val="45199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4116"/>
        <c:crosses val="autoZero"/>
        <c:auto val="1"/>
        <c:lblAlgn val="ctr"/>
        <c:lblOffset val="100"/>
        <c:noMultiLvlLbl val="0"/>
      </c:catAx>
      <c:valAx>
        <c:axId val="1304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99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628-BE1E-4C88-A547-A45B387F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5B9A-1CCE-46FC-8055-FDA3C7A4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0339-B517-4106-81B8-346B4881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9A56-592D-4304-B9E3-C000D250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52F-CBF2-4B70-8399-37C23217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B13F-D6A4-4745-960E-9C152978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1E0A-5BC3-455E-90F9-5E33F0F9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315B-3573-4E38-8242-23BF9C8D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C5E-75A2-4D5D-8C5F-501B9D05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9EB-A1F6-4A88-A6EF-1C4D5F5D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0CC-DC73-4677-89DC-DD071DB3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B072-BDD4-4898-AA9D-E7E9D5BE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76289-DA6B-41E7-AD5B-9EBFEFBE93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