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48376"/>
        <c:axId val="21645193"/>
      </c:barChart>
      <c:catAx>
        <c:axId val="97648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45193"/>
        <c:crosses val="autoZero"/>
        <c:auto val="1"/>
        <c:lblAlgn val="ctr"/>
        <c:lblOffset val="100"/>
        <c:noMultiLvlLbl val="0"/>
      </c:catAx>
      <c:valAx>
        <c:axId val="21645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48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E31-E55E-4DC8-8A35-12127923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909-FD97-45FE-B995-27B23AD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365-B717-4A0B-8ECD-6CE15325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B83-7ADE-4CF0-A163-3C340228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2DE-4FC1-489A-B260-6122BC2D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C0A-6C3E-42B4-A9B5-A4E4B144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307-2E67-480C-B92A-F9234BB3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D19-D533-48AA-8CE4-3BC6B17A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5A7-09E5-4E63-A18E-9B93B54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872-3FF0-4546-A924-0B8DF0E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F26-CAE3-4724-830E-8640E79E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F77-D365-4260-B135-8296A9FF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6BBF6-C059-4560-8943-42948A83F3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