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02473"/>
        <c:axId val="28897900"/>
      </c:barChart>
      <c:catAx>
        <c:axId val="68702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97900"/>
        <c:crosses val="autoZero"/>
        <c:auto val="1"/>
        <c:lblAlgn val="ctr"/>
        <c:lblOffset val="100"/>
        <c:noMultiLvlLbl val="0"/>
      </c:catAx>
      <c:valAx>
        <c:axId val="28897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02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157-C60F-48CA-B3D3-EE93C0D0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1BB-69EA-4F8F-B7F5-CE99BEF8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D4E-3765-4935-8EE2-BF11BF6A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871-7C44-426F-BB66-078B53C6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D27-9BD3-4EE6-AF2C-F558C60A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F0C-82EA-4897-BACA-B7EEE71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B8B-D39C-4C9C-89F0-C2651ED3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E68-2ED5-45D9-8E6C-895FCF24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E0F-30FC-4CC8-AF9F-1A051E66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42F-B3E2-4B4D-848E-AB80F4E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C6B-503A-4AFB-8BA7-9365251A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4AE-0859-4D9E-A480-B335BDB0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1E061-B65F-4932-9A32-A711F6615C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