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250720"/>
        <c:axId val="54952752"/>
      </c:barChart>
      <c:catAx>
        <c:axId val="202507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952752"/>
        <c:crosses val="autoZero"/>
        <c:auto val="1"/>
        <c:lblAlgn val="ctr"/>
        <c:lblOffset val="100"/>
        <c:noMultiLvlLbl val="0"/>
      </c:catAx>
      <c:valAx>
        <c:axId val="549527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2507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2EBD-54BD-4079-95F8-E46BE50F3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9E30-82FB-4354-8D3F-BF06392C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1891-41B0-43BA-8273-9E08D6622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20AF-3495-4737-BAEE-5B288C1DA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85AC-3DDE-4A5A-BBCD-0635DBFD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34DD-6B3E-4A04-87AE-D7C1421B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EF7D-EA81-423A-9811-91B314C2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7597-71E0-44CD-9CD7-815508BF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E906-F5D0-424C-A7BD-F887E1E9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0776-217C-498E-9528-BB8365C7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31C6-FD0A-429F-9AB5-065EA80C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B58E-4DDC-4F07-84A5-E15E599A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115DC6-6B27-4EFC-A843-74E8CF16FE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