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60728"/>
        <c:axId val="13026941"/>
      </c:barChart>
      <c:catAx>
        <c:axId val="33607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026941"/>
        <c:crosses val="autoZero"/>
        <c:auto val="1"/>
        <c:lblAlgn val="ctr"/>
        <c:lblOffset val="100"/>
        <c:noMultiLvlLbl val="0"/>
      </c:catAx>
      <c:valAx>
        <c:axId val="130269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607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C44B-29BD-464D-9264-A2F997EFB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B31A-06F9-4D01-88A6-1109B2734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8195-9C03-4202-8262-80C3A9B05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ADDA-DF34-44DD-A5BB-752E5698E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CFA4-41AD-4248-B432-71B1B4D26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F504-ABCD-4C7A-971A-1C5DB57E1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78A7-5745-4E71-872A-1C2C7793E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5D22-BC4D-4E13-A517-F82F91EA6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7B23-40BA-4F38-96B6-4D31DCB5C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4881-DC44-4B00-B65E-EAA99726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E85B-B3D9-42E1-AAC7-BF767515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CAC7-4BB3-4BE5-A396-B6836034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62EF5E-E1ED-43B7-BC18-F3D2B29DB18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