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62211"/>
        <c:axId val="88934550"/>
      </c:barChart>
      <c:catAx>
        <c:axId val="151622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34550"/>
        <c:crosses val="autoZero"/>
        <c:auto val="1"/>
        <c:lblAlgn val="ctr"/>
        <c:lblOffset val="100"/>
        <c:noMultiLvlLbl val="0"/>
      </c:catAx>
      <c:valAx>
        <c:axId val="88934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622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2BE-3C3C-457F-9564-E5A06ABD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3AD-9046-4EE3-A358-30AA66E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A35-ED66-49FC-B256-E6EDD99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A4F-4045-4E6A-A233-F9B10066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8B3-3E83-46C0-B94A-AA9D243E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33F-3BCC-421A-B2A1-6EF06EF5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3E3-296D-4BEF-A311-17D5A0C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D11-3035-4C61-9921-26967E09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84A-F070-4AB5-AF97-384B328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44B-3072-4040-B1EC-011483A7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AEE-49D5-4739-A20A-823C37A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616-2B7F-4F8A-A98C-3D284E0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F4D1C-3BD9-4992-AD3D-C1AC2EEBB9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