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37822"/>
        <c:axId val="84068183"/>
      </c:barChart>
      <c:catAx>
        <c:axId val="83337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8183"/>
        <c:crosses val="autoZero"/>
        <c:auto val="1"/>
        <c:lblAlgn val="ctr"/>
        <c:lblOffset val="100"/>
        <c:noMultiLvlLbl val="0"/>
      </c:catAx>
      <c:valAx>
        <c:axId val="84068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37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023-97F5-477F-A831-FB3416B4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116-4932-452D-B856-F087DD43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51E-239C-48AF-80F7-4ABFF188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F85-50EB-427B-ABA9-62260883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A06-157F-435A-913C-7197E45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33C-3366-4BDD-9A7F-E9CB2EB5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B1D-21F5-42E8-B989-D0CFB742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D76-B09C-47BF-A258-797D3F25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1F8-6F65-44ED-BFC3-B7DB4499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689-9014-46D9-90B6-B33BEC8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BCD-8254-43C2-B686-8CB1C67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9CE-5725-4287-A3E4-EC15A9D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DEC5-9E95-4949-9072-CADE4FE50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