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8945"/>
        <c:axId val="49341918"/>
      </c:barChart>
      <c:catAx>
        <c:axId val="98978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1918"/>
        <c:crosses val="autoZero"/>
        <c:auto val="1"/>
        <c:lblAlgn val="ctr"/>
        <c:lblOffset val="100"/>
        <c:noMultiLvlLbl val="0"/>
      </c:catAx>
      <c:valAx>
        <c:axId val="49341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8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446-60AE-458A-9613-D0AB272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00F-8CB8-41C0-9189-6FE09FA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3CB-BA80-43F8-A5AA-FA1759F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77A-5B73-4325-B746-17E932E0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CD5-40ED-441B-8D9F-BFD1D05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1D3-3B2D-4CA8-A9BB-A3B443A7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A58-EFE1-43C2-B7E1-4419E35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7BA-4223-4A4E-BBA5-EB3273F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8D9-0621-4440-80FE-52CB6469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C44-8E41-4DBB-B729-E7A3D43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ECA-7D9F-4AE2-892F-1BA54B6B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40D-A446-444C-BE5E-05EA3CE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2BF6D-312F-4147-9414-909B833F2F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