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209262"/>
        <c:axId val="25181617"/>
      </c:barChart>
      <c:catAx>
        <c:axId val="152092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81617"/>
        <c:crosses val="autoZero"/>
        <c:auto val="1"/>
        <c:lblAlgn val="ctr"/>
        <c:lblOffset val="100"/>
        <c:noMultiLvlLbl val="0"/>
      </c:catAx>
      <c:valAx>
        <c:axId val="251816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092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5C08-1D72-44CE-9B20-175BAAF3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DA61-8CF3-415A-826B-83C5A05B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6B8D-EC3F-49F6-A1B2-5F3D5908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7C46-4635-483C-9149-B038972C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C9C3-4D40-4EE2-9E6E-E3B65932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E1E6-0786-47B6-B0E9-9B2E8717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89F5-F210-48BE-9887-A369209D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660A-9EB1-4A4C-9DED-E48E6228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59ED-3E28-4DEC-9527-9E6A03F0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02B-5046-4ACC-AB40-1D1B79AE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9CF4-EF8B-41EE-8D45-BDCA5ACC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ABA6-F341-4C18-9092-F5B6C15B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FAAC2-A2D7-4E96-BE2E-2881A4AE86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