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47882"/>
        <c:axId val="92818820"/>
      </c:barChart>
      <c:catAx>
        <c:axId val="27447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18820"/>
        <c:crosses val="autoZero"/>
        <c:auto val="1"/>
        <c:lblAlgn val="ctr"/>
        <c:lblOffset val="100"/>
        <c:noMultiLvlLbl val="0"/>
      </c:catAx>
      <c:valAx>
        <c:axId val="92818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47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C2D-96F9-4C51-9549-8F1336C7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B89-4E78-4E70-9053-83840AE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9FA-E3ED-494E-8BB5-5335EC1D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9B6-3753-4E2F-BEB6-6D8F2558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406-613C-41B4-824D-6A78CE2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234-C5DA-4CEC-A31C-9BFAB82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259-523B-4093-BE57-A158ADC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5C-1626-4962-9B47-734B151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BC5-3F5A-4238-B5C6-208BA1C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BA3-2F19-4852-B8C9-1E4AD2E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810-F136-4D39-8D21-760BB03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5BF-AE95-4203-B988-E0D2E22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2E09E-8776-4B9A-B082-D18D49FE55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