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85179"/>
        <c:axId val="71773336"/>
      </c:barChart>
      <c:catAx>
        <c:axId val="261851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73336"/>
        <c:crosses val="autoZero"/>
        <c:auto val="1"/>
        <c:lblAlgn val="ctr"/>
        <c:lblOffset val="100"/>
        <c:noMultiLvlLbl val="0"/>
      </c:catAx>
      <c:valAx>
        <c:axId val="717733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851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7A8-C80B-4991-99CC-0F7A5BFC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775F-C0C6-4CF1-A24F-669E4637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07E-799F-401D-A139-F5F31F5D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50A6-AFE7-47EA-8B1C-38B396B1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BCAF-95CE-4261-86A9-D5725827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FA89-1845-4081-B58C-A56674F6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C9A-C599-4AB1-96DF-2240542B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212E-21F0-43F2-A3B8-B094C418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9913-489B-4458-8839-92110406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B7FB-6DD6-4226-AECA-1E561B7E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EA3D-87FA-47DA-970E-0FE8E3B8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4CFF-CBF3-4741-836E-2FFDF037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B1BB0-069C-46E6-88CC-F9B6364613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