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14603"/>
        <c:axId val="82564251"/>
      </c:barChart>
      <c:catAx>
        <c:axId val="77414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64251"/>
        <c:crosses val="autoZero"/>
        <c:auto val="1"/>
        <c:lblAlgn val="ctr"/>
        <c:lblOffset val="100"/>
        <c:noMultiLvlLbl val="0"/>
      </c:catAx>
      <c:valAx>
        <c:axId val="82564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14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674-82D6-4270-8FBE-B5A9387C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6D0-0290-49AF-8189-F9019213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9C0-69D8-4E2A-BDA9-1D89CE1F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D80-4261-47D0-BE7D-A8A3266B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EEC-77E4-4A13-92A8-577FE31E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10D-F4B0-4BE7-BA65-B01B2417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AC9-E8CF-43C7-9D33-96EC6173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82E-64A1-40D1-897E-FA671FD9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F9A-C6E8-4815-8367-0DEA4D23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626-8ADA-46C8-9EA2-A6D62FA7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2FD-8CCF-4A0A-AA36-31AD6AB6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A2B-94EA-4013-BE31-0D32D54B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1B565-0137-4DEA-AB94-7C66A7E140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