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10128"/>
        <c:axId val="31237869"/>
      </c:barChart>
      <c:catAx>
        <c:axId val="53110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37869"/>
        <c:crosses val="autoZero"/>
        <c:auto val="1"/>
        <c:lblAlgn val="ctr"/>
        <c:lblOffset val="100"/>
        <c:noMultiLvlLbl val="0"/>
      </c:catAx>
      <c:valAx>
        <c:axId val="31237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10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0DF-33F2-42BE-A8C8-E697873C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BCB-2564-4B74-B021-564C066D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50F-1660-4FC8-AF99-4152E9A6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016-9ED0-4724-82ED-019A430F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8EC-07A3-4C32-9980-5344B4D5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1C3-5E5C-4944-A5EE-70122AE6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E3B-C125-4A88-BF02-0A026848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668-4C29-482E-9C94-8661815F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367-5DC2-4447-ACCE-76C9D790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DF8-5C9C-42A6-A0E7-0E67CB8A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D54-A987-450D-A949-63924DCB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DC7-58AD-423E-A86F-A69C2CAF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9E65F-5B59-4BE9-B414-48D92AEA9C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