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47547"/>
        <c:axId val="91349919"/>
      </c:barChart>
      <c:catAx>
        <c:axId val="70247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49919"/>
        <c:crosses val="autoZero"/>
        <c:auto val="1"/>
        <c:lblAlgn val="ctr"/>
        <c:lblOffset val="100"/>
        <c:noMultiLvlLbl val="0"/>
      </c:catAx>
      <c:valAx>
        <c:axId val="91349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47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69E-4406-4CB0-A03C-4F9E885D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FE9-E206-4A55-8DAD-A6C3D56B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95C-B7F3-401F-9AD3-DF034C30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0BD-D447-4A95-8C1D-774446EA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5E9-A63F-4F05-BA97-7A394964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2B9-BED3-467A-A039-FF0CB140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C0B-1998-4437-89A2-03DB8FFD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F78-E88A-4CDC-9A10-99EE3DB0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C78-0937-4550-A161-3B040BB2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C55-37B3-4552-BE1D-67D3D6E9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936-B127-431A-A302-DF76AAAA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32F-CC7F-4DF3-A591-A3016B65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FACAD-C241-474D-A121-4BF7650E93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