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546671"/>
        <c:axId val="94791446"/>
      </c:barChart>
      <c:catAx>
        <c:axId val="915466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91446"/>
        <c:crosses val="autoZero"/>
        <c:auto val="1"/>
        <c:lblAlgn val="ctr"/>
        <c:lblOffset val="100"/>
        <c:noMultiLvlLbl val="0"/>
      </c:catAx>
      <c:valAx>
        <c:axId val="947914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466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34BA-EA86-4A86-9CC3-478F6D641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D8CE-5345-4CD2-822F-0F99F79B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E67E-DC62-4F9E-AB18-CA504AA23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5D64-F170-470D-BD55-8C67245E2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4144-846E-441C-85DD-AAC5ABA2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BD60-CC76-4032-A1A4-9A473066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C339-535B-4C4B-92FB-99AC9A79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2F4E-966F-4F3F-B899-FEE0003F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26E3-4D80-440B-B212-297614F5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E6AD-C723-47C4-80B4-003E50BC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6BCD-35C5-4F8A-B758-9CD949BB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30C0-A042-4203-B388-1B93515E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3903F-4ADD-4CDA-A234-3009F099D9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