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27197"/>
        <c:axId val="61629055"/>
      </c:barChart>
      <c:catAx>
        <c:axId val="36627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29055"/>
        <c:crosses val="autoZero"/>
        <c:auto val="1"/>
        <c:lblAlgn val="ctr"/>
        <c:lblOffset val="100"/>
        <c:noMultiLvlLbl val="0"/>
      </c:catAx>
      <c:valAx>
        <c:axId val="61629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7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C9E-8615-4C37-9381-EBA96D7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84-B986-4C5A-91D1-A0071AB2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468-7DBB-4E8D-B149-03FEE48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5B1-8A85-43AD-A97E-A6548834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D95-D7AF-44F1-BCB3-151095E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F1F-FE35-450F-BCD2-A4BC46A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D3F-AEB3-4C25-AF2B-4ABA8D7B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BC-65CB-42FA-8E42-4136B115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B3E-C3B4-45AA-9482-3442B29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98C-2DEA-466F-8781-DA8DF93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D73-65DF-49B1-8419-B0584CB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366-F644-4760-BF59-5CEB242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091C-DB33-41E7-BF46-F097E7B5A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