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52219"/>
        <c:axId val="20668815"/>
      </c:barChart>
      <c:catAx>
        <c:axId val="72452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68815"/>
        <c:crosses val="autoZero"/>
        <c:auto val="1"/>
        <c:lblAlgn val="ctr"/>
        <c:lblOffset val="100"/>
        <c:noMultiLvlLbl val="0"/>
      </c:catAx>
      <c:valAx>
        <c:axId val="20668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2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334-99B5-4800-9539-4E7ADDAD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710-145B-40A1-92F7-C6B2A94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A8D-E7AB-42E5-A6F2-0FD5C2B3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CAD-35AF-43E0-8A65-ACDB9D8E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D04-B8DE-4669-9525-B0207D3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9F0-5A59-435F-BAC5-681740B0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D8A-63C9-4251-8C0B-EF3D06E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C5D-12FC-426F-B45F-3AB685F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4F4-F291-40C7-861B-7E4FBFB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E47-8A0C-42B2-9BF3-9B10670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00F-FEE3-4DA8-A763-A64D670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991-AF92-47B2-B961-AA1D5EF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63BFE-E7BC-4B6D-BF5F-1B142109CE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