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04059"/>
        <c:axId val="44152849"/>
      </c:barChart>
      <c:catAx>
        <c:axId val="17604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52849"/>
        <c:crosses val="autoZero"/>
        <c:auto val="1"/>
        <c:lblAlgn val="ctr"/>
        <c:lblOffset val="100"/>
        <c:noMultiLvlLbl val="0"/>
      </c:catAx>
      <c:valAx>
        <c:axId val="44152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04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373-9177-4462-AF71-173064F2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02D-B721-4F0A-A559-5DAEF6A6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7FD-65D2-4E00-AC5D-1659F492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26B-1D74-497A-8315-A99A682D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B73-0A42-4E71-96AE-F2297C53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B60-26AF-4D31-B104-6ED9920E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7CC-94E1-44EB-A1A8-A636C00D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CB2-41A4-4FE7-9150-358F11EC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E73-1AC1-4E15-A1E6-29BCA6A3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AA0-877A-45AF-B1F5-CEE138A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46E-7C8C-45C8-85F1-AD4EDAB0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617-91BA-470F-92B5-094E38E9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FE684-B61B-4184-988E-746DA8002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