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52572"/>
        <c:axId val="51368774"/>
      </c:barChart>
      <c:catAx>
        <c:axId val="63525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368774"/>
        <c:crosses val="autoZero"/>
        <c:auto val="1"/>
        <c:lblAlgn val="ctr"/>
        <c:lblOffset val="100"/>
        <c:noMultiLvlLbl val="0"/>
      </c:catAx>
      <c:valAx>
        <c:axId val="513687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525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32A9-8646-40C7-90FA-9AF875425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2A04-F01F-4810-A309-C01FB8D5B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E390-3294-42AC-9E53-7EED0AD76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AB7C-CCB3-4802-BFD7-80A3CFDCF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9453-0A41-4F3B-AE97-E7FBC7A29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4005-A50C-420E-B39C-D209F84E4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45A7-D036-4322-AE27-D48D97297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565C-FAD8-438E-914C-9C09332FF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71AC-D4D5-4040-BADB-56A7F7665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BCEC-4E20-4064-8C0F-52D3BD321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0798-95B8-47C9-A4C7-41BE0E0F3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0969-8B5E-4F9E-9F9F-E628A55AE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46CBEC-FCC6-4ADF-8D50-A96FF055271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