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17905"/>
        <c:axId val="7768636"/>
      </c:barChart>
      <c:catAx>
        <c:axId val="44517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8636"/>
        <c:crosses val="autoZero"/>
        <c:auto val="1"/>
        <c:lblAlgn val="ctr"/>
        <c:lblOffset val="100"/>
        <c:noMultiLvlLbl val="0"/>
      </c:catAx>
      <c:valAx>
        <c:axId val="7768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17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AD9-2649-45CE-8A31-4DF631F6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3CD-E261-458E-8377-C55D6E78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28F-E3DD-4D9F-8F5A-FEC015CF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CC8-8D6F-43C3-A523-85822A4E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8FC-4D16-49B1-BFB1-42BF99D3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A0D-D57D-49D4-81BE-667469C9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F1C-11D7-41BB-B69C-736BF5AE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259-6060-4E3F-957C-BDEDE0E0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E60-0125-4283-9BD0-CCD070D0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955-6EEF-420C-85EB-3D421EC0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398-B935-4309-98E5-C72E76E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83F-3E14-473D-98B9-B6341272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E9D9A-12ED-4D4D-A92B-8A36C1EC9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