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81093"/>
        <c:axId val="42196660"/>
      </c:barChart>
      <c:catAx>
        <c:axId val="99081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96660"/>
        <c:crosses val="autoZero"/>
        <c:auto val="1"/>
        <c:lblAlgn val="ctr"/>
        <c:lblOffset val="100"/>
        <c:noMultiLvlLbl val="0"/>
      </c:catAx>
      <c:valAx>
        <c:axId val="42196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81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F05-F23C-4A89-A2E8-F47F596A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959-DB40-4FD1-B393-89317E15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570-4964-4FD5-9F23-2CAC2D96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E4D-6905-464B-BD9E-11145D51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9B1-CD50-49BE-A5D5-EC9AE573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DDB-FEC8-4D44-949A-B3607F85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63F-274F-4152-96B9-D2FB200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C7B-8329-40A9-A998-4A812FFD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1D9-0D38-48D6-AF80-0DE54D18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F88-8F8F-410D-B6F6-AB797E86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575-DB32-47A9-9CCA-1B9E7B7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262-9D04-4B97-BAFF-53E95E5A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9EC29-0AB0-4813-BC8D-1604231748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