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63445"/>
        <c:axId val="32032949"/>
      </c:barChart>
      <c:catAx>
        <c:axId val="80563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2949"/>
        <c:crosses val="autoZero"/>
        <c:auto val="1"/>
        <c:lblAlgn val="ctr"/>
        <c:lblOffset val="100"/>
        <c:noMultiLvlLbl val="0"/>
      </c:catAx>
      <c:valAx>
        <c:axId val="32032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63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D48-BE37-4EFB-9925-5A9834E6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247-A6A2-4889-9C9F-775D881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7A9-DE02-4F2B-80EE-09A5146C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3EC-AD8C-45E9-85CA-3770BF02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86D-464D-46E0-9FF1-612B6F60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815-E79D-46DF-B415-5898EB2F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B6B-4BA6-45C7-8FEF-A23DB93E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82C-44BB-4A19-9AE7-E2EABDA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913-1AB5-4DB5-9753-D324B567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E7C-6A29-4B1D-A21D-A59A81DE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E09-5F75-49D2-AFE5-A068163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16C-B246-4D54-B41C-D576DD5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3DCC6-F920-48E6-9599-80AB1F8961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