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6578"/>
        <c:axId val="41407255"/>
      </c:barChart>
      <c:catAx>
        <c:axId val="8736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7255"/>
        <c:crosses val="autoZero"/>
        <c:auto val="1"/>
        <c:lblAlgn val="ctr"/>
        <c:lblOffset val="100"/>
        <c:noMultiLvlLbl val="0"/>
      </c:catAx>
      <c:valAx>
        <c:axId val="41407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ED8-8FB0-4857-82BA-6CE2059A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163-0AD7-426F-9CFC-1510A020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263-6170-48F2-8B77-8559AE33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923-A901-47FD-9AF6-BFFA90CE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7BA-F1F3-4172-B6E9-6C473D4A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3B5-5678-4E7D-9FED-48FDB2B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F46-69A5-4785-94DD-0421038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240-5CA9-4ED6-8600-518B1A3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1FF-3AE1-4ED8-BCCA-13544928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B4C-6FC1-4298-80DA-02092B44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3D2-9492-40A4-96A0-71F13F2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78E-3303-49A3-902F-EDB79E4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BF168-04EC-4A94-AE24-98ABD8B97C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