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63175"/>
        <c:axId val="96406247"/>
      </c:barChart>
      <c:catAx>
        <c:axId val="10063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06247"/>
        <c:crosses val="autoZero"/>
        <c:auto val="1"/>
        <c:lblAlgn val="ctr"/>
        <c:lblOffset val="100"/>
        <c:noMultiLvlLbl val="0"/>
      </c:catAx>
      <c:valAx>
        <c:axId val="96406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3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C48-AAEB-49B3-AEC3-C87D4944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9E0-44CC-41EA-BE79-94BD205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CCC-8528-4FAE-841D-7BC4D56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525-580C-4CA1-B4C5-C3ADE5B5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FB0-E602-4E48-9D00-C4C5514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4B5-B9E7-4EC6-9EA1-F25E5A53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AE5-15D2-4508-88D3-0EEEC125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212-500C-4B90-B1CD-1A337C2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145-D1C4-4A49-9465-6F806EE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1E2-6997-40EA-9050-399F7C6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A45-A457-4D09-919C-19D2711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142-BB68-41CA-AE57-4AF5F93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86BEF-27DA-491F-A3C2-94C5963346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