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23676"/>
        <c:axId val="39633987"/>
      </c:barChart>
      <c:catAx>
        <c:axId val="444236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33987"/>
        <c:crosses val="autoZero"/>
        <c:auto val="1"/>
        <c:lblAlgn val="ctr"/>
        <c:lblOffset val="100"/>
        <c:noMultiLvlLbl val="0"/>
      </c:catAx>
      <c:valAx>
        <c:axId val="39633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236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1101-5567-4BE8-BF0F-7BA00BBB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95C-5A31-477C-BFC0-62B8ED09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4AA-190D-4505-BAA1-D16908BC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D372-79BC-4A71-A33C-67B04342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6FD-AA30-4AE7-9E8F-1A4537B4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6B7-66B2-400A-BAA8-A9D508B9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B63-960B-4EC5-876F-17AAF133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52F-FC4C-44AA-AC21-9A4A270D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120-78BF-483F-A66F-5F347062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506-D1F0-4389-8CAC-BAC991DB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E61-040A-47C0-8AD3-970CF72C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1BB-453F-4E65-A0E8-80FFB6E5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F99EE-B9E5-412E-96F1-12FD44FAD9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