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18320"/>
        <c:axId val="96741346"/>
      </c:barChart>
      <c:catAx>
        <c:axId val="49518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41346"/>
        <c:crosses val="autoZero"/>
        <c:auto val="1"/>
        <c:lblAlgn val="ctr"/>
        <c:lblOffset val="100"/>
        <c:noMultiLvlLbl val="0"/>
      </c:catAx>
      <c:valAx>
        <c:axId val="96741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18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54B-DD90-4262-A536-A6D77F45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76F-8906-4029-BFE8-D8DFF0C4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DAFE-2C21-48F1-9C51-5C35775D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0BF-9392-4BE2-A99C-012F5168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EC8-B6FF-4CDC-8FBE-A71783ED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BCE-02D0-4C5A-A904-602AFBD3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31D-6D1F-433A-8E7C-16A23CE7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6C2-DD88-4A65-B4EE-4240E2C7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CA4-ACD7-4683-A949-DF2A483E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7A2-7A7C-4702-AA52-E135BD7A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124-DDB0-4B7A-BDCF-0F27010C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B5C-8A07-49C2-AFC3-A6913DB7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553CC-31D7-4DAB-8347-24287742AE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