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38418"/>
        <c:axId val="65501131"/>
      </c:barChart>
      <c:catAx>
        <c:axId val="93538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01131"/>
        <c:crosses val="autoZero"/>
        <c:auto val="1"/>
        <c:lblAlgn val="ctr"/>
        <c:lblOffset val="100"/>
        <c:noMultiLvlLbl val="0"/>
      </c:catAx>
      <c:valAx>
        <c:axId val="65501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38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546-7FEB-4ADD-AE21-177A8CC3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187-E337-4291-B7BB-E66A4589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588-505E-45BC-928A-85127EEE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069-FE66-40ED-90C3-B3FA1321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065-523C-4B11-BEF0-E4DDFB84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70D-BF5F-4E78-A25C-72FAAFCC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8BA-67ED-49B1-ACEA-72BAA4C8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88F-514C-4706-9346-3BD28E4F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228-E1F5-4D95-820E-77426481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5857-FE14-4F48-862D-B4A5F85D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D28-C4DF-4231-9400-FB11E6BF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220-C6AE-4F5F-942F-01F6E646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B5CD9-E110-4164-9282-327FFF5EF6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