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2102"/>
        <c:axId val="82128141"/>
      </c:barChart>
      <c:catAx>
        <c:axId val="297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8141"/>
        <c:crosses val="autoZero"/>
        <c:auto val="1"/>
        <c:lblAlgn val="ctr"/>
        <c:lblOffset val="100"/>
        <c:noMultiLvlLbl val="0"/>
      </c:catAx>
      <c:valAx>
        <c:axId val="82128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EAA-B9EF-462E-BD24-2D7465D8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A13-7FBC-4603-AD46-DC38C660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174-3B84-4B74-870E-52B70384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355-0970-47CA-A74E-FAC4F98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811-4D17-420C-8391-CD63D5C3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227-F755-40D9-8916-BCD6839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D4E-25D6-4027-8024-4C6B61E0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412-5C5B-4BD6-818C-E7A6862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7D7-5001-4198-B884-119A360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161-5CF7-4A0A-BBFB-60C3253E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493-6CC3-4F33-9EF9-A148FF5F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1A7-F9A7-4374-9BC2-A60A80D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9F2D0-617B-43C5-B0F8-5633BEE290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