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55445"/>
        <c:axId val="7210329"/>
      </c:barChart>
      <c:catAx>
        <c:axId val="31855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0329"/>
        <c:crosses val="autoZero"/>
        <c:auto val="1"/>
        <c:lblAlgn val="ctr"/>
        <c:lblOffset val="100"/>
        <c:noMultiLvlLbl val="0"/>
      </c:catAx>
      <c:valAx>
        <c:axId val="7210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55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E4E-633F-4059-B4E3-8E5286FC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91F-8954-407F-9121-AF327A48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1CD-FEF5-41D1-B62A-89E7D905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D84-9563-4CD6-AEB0-23401936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D1A-F92F-4E7B-9A11-1468133D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A40-F0B6-409C-AB8B-D0284114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98E-9930-4458-8F5F-6DE62E4E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7F0-4620-488B-8F2E-B047B84D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EC0-5FE3-413E-BD8D-3CF162E1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932-020D-4919-BD37-90A37295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22B-1489-4C4C-B29B-5454610A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22E-C71E-452F-9E6B-5AFF02D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42246-FFED-415E-93EE-4FD1D60A9C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