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354515"/>
        <c:axId val="96341269"/>
      </c:barChart>
      <c:catAx>
        <c:axId val="213545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41269"/>
        <c:crosses val="autoZero"/>
        <c:auto val="1"/>
        <c:lblAlgn val="ctr"/>
        <c:lblOffset val="100"/>
        <c:noMultiLvlLbl val="0"/>
      </c:catAx>
      <c:valAx>
        <c:axId val="963412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545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E98E-F3FE-499A-B4EE-ED3876A35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74AD-D919-46FD-ABC9-BAE29C3E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01FB-1BBE-441A-B9DA-4457A196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2FDE-D903-42D0-A4DD-7F164891E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9C35-50A6-4150-89A1-4EFB8967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A2E6-1788-4642-975C-EA79FFBD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2612-3CFD-4E88-92DC-B65E9BFA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4D0C-AA32-4CDA-9F7E-F090948C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BD7B-825F-4960-AA7A-34505FB4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8B69-761A-4A20-BE97-C4317FE0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289C-1628-43A7-956A-327735AB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B6B2-5A42-4D82-B919-4A430CD0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869CF-C76C-47F1-8614-DAF37C9EFF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