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93229"/>
        <c:axId val="9807410"/>
      </c:barChart>
      <c:catAx>
        <c:axId val="85093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7410"/>
        <c:crosses val="autoZero"/>
        <c:auto val="1"/>
        <c:lblAlgn val="ctr"/>
        <c:lblOffset val="100"/>
        <c:noMultiLvlLbl val="0"/>
      </c:catAx>
      <c:valAx>
        <c:axId val="9807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93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84A-3B03-4F50-A168-67511622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D65-955F-48FD-9BD6-72EB9B94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850-7317-4CEE-915E-3E76D8ED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633-9518-4585-BFF8-2F34B2D4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FC5-C4CA-4CC4-8021-BD7E0FAE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3A1-D025-4CEB-BB75-064C90E9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C08-6D1B-46D0-9C42-78BBA4FF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B23-0129-4073-9675-699F8962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4EC-A392-4236-965F-34745343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914-17A4-4D80-8BE5-456762C6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2D4-AC4B-445E-A788-0D96C2B6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F92-C2E0-4079-AE5B-0C1F825E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CCC0F-6F47-4DF4-82C6-3F5D41EB2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