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18068"/>
        <c:axId val="77443412"/>
      </c:barChart>
      <c:catAx>
        <c:axId val="792180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43412"/>
        <c:crosses val="autoZero"/>
        <c:auto val="1"/>
        <c:lblAlgn val="ctr"/>
        <c:lblOffset val="100"/>
        <c:noMultiLvlLbl val="0"/>
      </c:catAx>
      <c:valAx>
        <c:axId val="77443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180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208-5D81-4110-9840-71D53FED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6A1E-851E-49B6-82A3-0BDD89DA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342-2BC3-4363-B29A-22BAEE1A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8DEF-821B-4662-9687-920402AE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378F-ED33-4769-A3AC-4D9359A8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0DA6-F70E-4325-8708-D2F5A7C4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9F2-87D1-4E6A-AA96-D2F04D43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D63-4EEC-42FB-AEAB-638A5521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614-9F97-4BE1-ABFD-3E938BD5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A9F-7F46-4F21-8CEC-A92427C1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C89-0E5D-4A98-9F6D-55141515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9E6-F1E9-4878-BF85-48B3AF84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63257-9E04-4DF2-AC16-3EC11FE60E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