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04840"/>
        <c:axId val="22606220"/>
      </c:barChart>
      <c:catAx>
        <c:axId val="49704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06220"/>
        <c:crosses val="autoZero"/>
        <c:auto val="1"/>
        <c:lblAlgn val="ctr"/>
        <c:lblOffset val="100"/>
        <c:noMultiLvlLbl val="0"/>
      </c:catAx>
      <c:valAx>
        <c:axId val="22606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04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5D8-1A38-4FC0-91E3-8FC41DED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5BF-C788-4242-B2FB-296D93A8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47B-3C4E-4CE3-938B-2A7EB573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A99-542B-4DA8-AFEB-59548DA1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DEF-EC10-420A-950C-6E338C74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DAD-5103-4BF3-8361-2268D626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82B-962B-437F-86F3-FDB73C03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9B4-5F12-47D4-B549-A199F23E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6C6-8441-46C0-9E78-82C7D86D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429-4D3A-42D5-84F4-9C39C09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A66-C4FC-4723-B5E3-93426C40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E52-3AAC-431A-91FB-283B89B8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A6101-6877-434D-B508-7AB09FD894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