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21120"/>
        <c:axId val="51317853"/>
      </c:barChart>
      <c:catAx>
        <c:axId val="48521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17853"/>
        <c:crosses val="autoZero"/>
        <c:auto val="1"/>
        <c:lblAlgn val="ctr"/>
        <c:lblOffset val="100"/>
        <c:noMultiLvlLbl val="0"/>
      </c:catAx>
      <c:valAx>
        <c:axId val="51317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21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887-9B9F-46D6-9271-899212A9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C86-DE1E-4CAA-864D-F672D932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DDD-30E7-47AD-AB9C-ED35C6C7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83E-C873-41D1-AC0C-3F66C686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181-8181-4F19-A0F4-58BC687A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EB1-24C7-4DB1-A302-43689ABC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A92-5284-4830-B3DC-2E43E899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5735-00B1-4866-9329-F30E694F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9FF-85E0-44AA-809E-BD1817B7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818-2121-49E4-94CF-5C7FD833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2F6-DAC2-4745-81C8-3354CF08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A9F-8DDE-453D-BA91-75BCC7BB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A3601-DEFB-4B42-A059-0CD6A89187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