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61806"/>
        <c:axId val="51680008"/>
      </c:barChart>
      <c:catAx>
        <c:axId val="87461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80008"/>
        <c:crosses val="autoZero"/>
        <c:auto val="1"/>
        <c:lblAlgn val="ctr"/>
        <c:lblOffset val="100"/>
        <c:noMultiLvlLbl val="0"/>
      </c:catAx>
      <c:valAx>
        <c:axId val="51680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61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DE0-DE45-44D9-86CB-7299BCCB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0B0-F580-41DB-927A-B78F8088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B8B-E27C-4AE3-90D3-9B137F1B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0E3-782E-440D-A00E-93B442FA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3D7-009E-4A9C-8288-94C7947E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6E3-8CAC-4CD5-9D24-294C533F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ACE-46C3-4D1E-AD3D-CB4BFB7A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CE40-0ACA-466F-B34D-C0544829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EF1-205B-4320-B95C-E89E5A6B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FC9-A1C0-4CD2-9855-1DE171C5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6EC-05B0-4AD8-8A33-7DB4957D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7AA-BB6F-414C-847E-04A7724E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5EC7A-AE5C-415D-8E5C-231E321903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