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28410"/>
        <c:axId val="13736014"/>
      </c:barChart>
      <c:catAx>
        <c:axId val="40728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36014"/>
        <c:crosses val="autoZero"/>
        <c:auto val="1"/>
        <c:lblAlgn val="ctr"/>
        <c:lblOffset val="100"/>
        <c:noMultiLvlLbl val="0"/>
      </c:catAx>
      <c:valAx>
        <c:axId val="13736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28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430-BB73-4D68-8368-62C644EF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9D2-FA12-4523-A996-5B7D8865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895-917C-4A99-9CB9-164222F2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EC7-D854-43F1-85ED-329A0B75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0FB-51C8-4614-BD97-5F514B92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020-CC3B-4232-B331-EE8FD96D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500-5C2F-4167-9A40-94CBED2E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120-F049-4109-93B6-F08E73F3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D27-F015-4495-B5B0-8DB61350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926-481C-425E-B468-A9576800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F9D-C689-4D0F-91D0-210B20B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04F-F9B9-4960-8F68-944853DB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2C30F-CC01-45B4-B8BC-8165C8D5E2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