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591485"/>
        <c:axId val="73196581"/>
      </c:barChart>
      <c:catAx>
        <c:axId val="415914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96581"/>
        <c:crosses val="autoZero"/>
        <c:auto val="1"/>
        <c:lblAlgn val="ctr"/>
        <c:lblOffset val="100"/>
        <c:noMultiLvlLbl val="0"/>
      </c:catAx>
      <c:valAx>
        <c:axId val="731965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914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7512-710B-42A6-B3C9-4E285E314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64E2-6F98-453F-8C6E-69490DC4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D5F3-49D9-4D27-9C72-68A63120B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0E85-6DFE-4C9E-BE89-365335807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0FDB-8487-452A-9D47-79207509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53D1-1872-4E28-96FB-43ED2A0F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2B27-EF57-400F-B423-DD202E72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263E-8CBE-423A-BDB8-B9A34E94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6806-2A0F-4533-87B1-6C4C4575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75EB-BCD3-4952-A4A5-31C64EBF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3D67-215C-4763-BD91-EFDAD0B1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5A09-6177-4A2B-8257-DBC71F6C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D5006-E273-4E5B-B88A-9FC141D24E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