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82224"/>
        <c:axId val="23948897"/>
      </c:barChart>
      <c:catAx>
        <c:axId val="264822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48897"/>
        <c:crosses val="autoZero"/>
        <c:auto val="1"/>
        <c:lblAlgn val="ctr"/>
        <c:lblOffset val="100"/>
        <c:noMultiLvlLbl val="0"/>
      </c:catAx>
      <c:valAx>
        <c:axId val="239488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822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037-D338-4656-9832-C927749A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0AD0-7EC1-487F-9941-C724825C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E3F-FAEB-4EFE-AB29-A1BF80AD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94D8-13A6-4559-82E9-B1E6E337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902-1FA4-48FC-A29A-52748554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477-2609-40A4-AFA6-6A762BEF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1F9-13BB-462A-ADFF-47109683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A85-ABC8-4C0F-AEF4-EB6F2832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E715-8B74-42B1-A722-284D0AB5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DD34-CB42-45BC-8F36-0302CD2B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902D-210F-46DA-967D-F9A406C6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1C1-570E-4B9E-83FF-F8AC5B8C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AC6A8-4BB0-41FD-A798-238BC6EFF9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