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04781"/>
        <c:axId val="32466123"/>
      </c:barChart>
      <c:catAx>
        <c:axId val="23104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66123"/>
        <c:crosses val="autoZero"/>
        <c:auto val="1"/>
        <c:lblAlgn val="ctr"/>
        <c:lblOffset val="100"/>
        <c:noMultiLvlLbl val="0"/>
      </c:catAx>
      <c:valAx>
        <c:axId val="32466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04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1CD-FB5D-4194-A17A-187566CF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80C-2402-4A96-87B6-6875D1B6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AB0-C1B9-4AA9-A9FA-4944105C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221-6C01-4FED-904F-C747E19C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A14-0EC2-4FBD-A753-E027FA80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ED1-038A-4784-95EE-27C1ACBC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314-4310-4731-AF0D-62B2B390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2AA-F5C8-4149-AC2F-769EDDBB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4D0-FA6F-4F8C-B9AB-05153FA8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B88-72C7-4BC8-A5AA-8F221629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BE0-C61F-410C-9671-FB1EE18B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AD2-D8D5-41A2-AE45-D5B391E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7F743-1D15-4595-8C20-6C1250A1A9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