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44844"/>
        <c:axId val="70377517"/>
      </c:barChart>
      <c:catAx>
        <c:axId val="10144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77517"/>
        <c:crosses val="autoZero"/>
        <c:auto val="1"/>
        <c:lblAlgn val="ctr"/>
        <c:lblOffset val="100"/>
        <c:noMultiLvlLbl val="0"/>
      </c:catAx>
      <c:valAx>
        <c:axId val="70377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44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541-5E5B-4731-9357-2E9B203A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C13-16B6-49BF-8D33-F602BDF3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A6C-44E8-4981-9AB1-4DA52760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53C-674A-4EB5-8652-DAB43943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BEC-0B2A-4877-88BE-BC82F60F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9C5-8790-4694-92F7-1105977A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591-E9C1-44AB-9AE8-06CF4B46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DCF-C245-4470-98F9-419CF86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5A2-0E50-4996-98D4-CA53C86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DE6-A9AE-4011-93B2-20E59BEE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B24-47B3-49F1-986D-9DA7916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3D8-9E1F-4246-88C6-67FAB8C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FFEE8-77DB-45F7-913C-AE8D467E80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