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551695"/>
        <c:axId val="28498647"/>
      </c:barChart>
      <c:catAx>
        <c:axId val="205516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498647"/>
        <c:crosses val="autoZero"/>
        <c:auto val="1"/>
        <c:lblAlgn val="ctr"/>
        <c:lblOffset val="100"/>
        <c:noMultiLvlLbl val="0"/>
      </c:catAx>
      <c:valAx>
        <c:axId val="284986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5516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2E98-6A60-4FCA-AFD2-221A84E89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3017-F417-4F47-87AF-266CEB41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59A7-8F4F-458E-B30D-CF5D31F71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8AF2-563C-41A3-B7C4-58F7F75BB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A3A6-1A8E-40C5-A7C0-9541D0A1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7F56-7A35-4024-B78B-3C0F4955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95C1-0E1D-4F82-96D5-4E6CA780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9EAD-AB66-40B6-8F01-9919DA9C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B9A7-4E90-4778-AADD-11683203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5F83-8173-4C0E-B069-3CF368A8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32FB-9C56-4EB2-AC55-40C7F12A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1AA5-69C5-4969-AD7E-2AE5F82E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59A468-8899-4F88-8B73-1CDA05F3D5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