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372083"/>
        <c:axId val="25488797"/>
      </c:barChart>
      <c:catAx>
        <c:axId val="443720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488797"/>
        <c:crosses val="autoZero"/>
        <c:auto val="1"/>
        <c:lblAlgn val="ctr"/>
        <c:lblOffset val="100"/>
        <c:noMultiLvlLbl val="0"/>
      </c:catAx>
      <c:valAx>
        <c:axId val="254887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720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4C72-F84A-4D68-9E42-D3EFD2B86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5C4E-D492-4142-8039-F7E80184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AB8E-2023-4C21-B75C-901F1E81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617D-0DB6-4483-88BC-EA9EFC7BE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F96F-3F47-416D-BB99-6CDD63F6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F699-BD4A-4D1A-88A4-9B093FC1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DC85-B72C-4A19-A3EC-B8B0D0FD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05DB-618F-4741-B2CD-B1C19A28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5ED3-99A0-4609-A767-A23B6F16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1A31-582E-4DB4-9C66-A7500737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4155-F1CC-4CA7-BADF-6F14C95E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C2E6-FF10-4D48-A5F9-F36A654A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CF832-387C-4305-9755-8456ABD00D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