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1336"/>
        <c:axId val="93722105"/>
      </c:barChart>
      <c:catAx>
        <c:axId val="5581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22105"/>
        <c:crosses val="autoZero"/>
        <c:auto val="1"/>
        <c:lblAlgn val="ctr"/>
        <c:lblOffset val="100"/>
        <c:noMultiLvlLbl val="0"/>
      </c:catAx>
      <c:valAx>
        <c:axId val="93722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562-C923-4BD6-98B6-D71CE07E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503-CEAE-476B-861C-72B5819F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79D-23C4-4EC5-9C4C-17C7CC78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39B-9772-4455-96C8-6539D740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413-553E-4DEF-A881-2EB216FD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3D0-A9A4-4413-83B5-BB23D4E3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8A6-B040-42EA-8C44-1B5C14F7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8FA-30E1-4E5B-BA2A-7CE11063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35F-A3AA-4700-8362-35478052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E63-C5DA-4AD2-873F-CA8F853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C6C-0EB8-4061-9BF4-64CDFC6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D27-8715-4B80-A5DB-EB9FD5C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A9A67-B561-429D-ACC0-A816829269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