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16272"/>
        <c:axId val="49486905"/>
      </c:barChart>
      <c:catAx>
        <c:axId val="86716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86905"/>
        <c:crosses val="autoZero"/>
        <c:auto val="1"/>
        <c:lblAlgn val="ctr"/>
        <c:lblOffset val="100"/>
        <c:noMultiLvlLbl val="0"/>
      </c:catAx>
      <c:valAx>
        <c:axId val="49486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16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020-ECD3-4E4C-ACC2-BB91863B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6EF-816C-4C14-A106-72AB4BC9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D52-D087-4444-B070-EDED1595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B85-4E25-49C1-BABE-CF638035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890-0A66-4897-BC3A-23440E5E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02C-FB7B-4AE5-A0EA-3410A9E9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3B0-0FCD-4244-9FCA-33F1D26A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88A-ED7D-46D9-A801-6F0BAF7A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3C8-0415-44DB-86D9-9B478199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CCD-9B42-4AF4-B5C1-D4B41C68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6F2-1FE8-4D32-AE53-53D6717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D3B-8FCC-47E3-936B-828A1BD5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31CDE-0C4C-4A36-BAE4-5671CA7F3A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