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43532"/>
        <c:axId val="80639147"/>
      </c:barChart>
      <c:catAx>
        <c:axId val="62743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39147"/>
        <c:crosses val="autoZero"/>
        <c:auto val="1"/>
        <c:lblAlgn val="ctr"/>
        <c:lblOffset val="100"/>
        <c:noMultiLvlLbl val="0"/>
      </c:catAx>
      <c:valAx>
        <c:axId val="80639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43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9CA-96CF-4C0A-A662-0FEAF964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882-7D7E-4D76-B510-B35616A0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533-54B9-4B9C-8E3C-3FA32BD4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803-CCE9-46DD-8D53-9A42456F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4CF-3D2D-4FFA-847D-EAB1FA87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D93-E2A4-49BF-AB4A-B423E069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E0B-0B08-4E38-8E4C-E5105A0C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4F6-95DA-449C-BA3F-F0A5023A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131-6F09-4FAF-A3AD-C4FAFA41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6A7-B23A-4E8D-99E3-F085EEC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7D4-5F7B-4E34-BDA4-F63D5540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01C-96B0-4A09-9921-24B46569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1FF89-5471-4CA4-B7A0-60F1275B1F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